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95E-C73E-4CB7-9045-10B9938B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00E-DC6B-42D5-A963-0DCBAF2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AAD-A7B3-41EE-81B4-A6826157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18A-D00E-4530-A5E5-A16F0909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C3F-0699-4134-82C1-59AEE8AA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1F3-F0D2-46C6-A80D-A059141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CFF-9D4B-405F-BC0B-55722969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747-7FEB-4EEB-8306-912E2C87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2BB-1AB1-4065-B860-7A1E5BA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306-0E61-49A4-B9B0-45A2D32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16B-1802-4B26-B560-0D98743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D5E-7617-42FB-8682-F5B8286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5CB8-6B15-4470-BB35-B1B903FF1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23040" y="2851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486400" y="4587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35"/>
          <p:cNvGrpSpPr/>
          <p:nvPr/>
        </p:nvGrpSpPr>
        <p:grpSpPr>
          <a:xfrm>
            <a:off x="1506600" y="3505320"/>
            <a:ext cx="4137120" cy="1874520"/>
            <a:chOff x="1506600" y="3505320"/>
            <a:chExt cx="4137120" cy="1874520"/>
          </a:xfrm>
        </p:grpSpPr>
        <p:sp>
          <p:nvSpPr>
            <p:cNvPr id="150" name="Text Box 10"/>
            <p:cNvSpPr/>
            <p:nvPr/>
          </p:nvSpPr>
          <p:spPr>
            <a:xfrm>
              <a:off x="1506600" y="451944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294080" y="45673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792080" y="45687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654440" y="4621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2438280" y="45529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494160" y="46260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476440" y="350532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 rot="544200">
              <a:off x="3881160" y="4952520"/>
              <a:ext cx="609480" cy="38124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2438280" y="502920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1766880" y="396216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30"/>
            <p:cNvSpPr/>
            <p:nvPr/>
          </p:nvSpPr>
          <p:spPr>
            <a:xfrm>
              <a:off x="2362320" y="39625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>
              <a:off x="4114800" y="39625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33"/>
            <p:cNvSpPr/>
            <p:nvPr/>
          </p:nvSpPr>
          <p:spPr>
            <a:xfrm>
              <a:off x="4114800" y="3962520"/>
              <a:ext cx="228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21160" y="2666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18880" y="5410080"/>
            <a:ext cx="18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58160" y="3200400"/>
            <a:ext cx="16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30280" y="3773520"/>
            <a:ext cx="2743200" cy="1334520"/>
            <a:chOff x="530280" y="3773520"/>
            <a:chExt cx="2743200" cy="1334520"/>
          </a:xfrm>
        </p:grpSpPr>
        <p:sp>
          <p:nvSpPr>
            <p:cNvPr id="169" name="Text Box 8"/>
            <p:cNvSpPr/>
            <p:nvPr/>
          </p:nvSpPr>
          <p:spPr>
            <a:xfrm>
              <a:off x="532440" y="377352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Arial"/>
                </a:rPr>
                <a:t>Factors of 4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Su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>
              <a:off x="2359080" y="38862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530280" y="41911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837000" y="421956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837000" y="464832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582640" y="408636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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28"/>
            <p:cNvSpPr/>
            <p:nvPr/>
          </p:nvSpPr>
          <p:spPr>
            <a:xfrm>
              <a:off x="2590920" y="4449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21240" y="2852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089080" y="350532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1201680" y="3886200"/>
            <a:ext cx="4208400" cy="1341000"/>
            <a:chOff x="1201680" y="3886200"/>
            <a:chExt cx="4208400" cy="1341000"/>
          </a:xfrm>
        </p:grpSpPr>
        <p:sp>
          <p:nvSpPr>
            <p:cNvPr id="182" name="Text Box 8"/>
            <p:cNvSpPr/>
            <p:nvPr/>
          </p:nvSpPr>
          <p:spPr>
            <a:xfrm>
              <a:off x="1201680" y="43434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133720" y="4343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3913200" y="4390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148752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4451400" y="44704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3187440" y="4432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 rot="544200">
              <a:off x="36576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209680" y="482904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419112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4191120" y="388620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08760" y="26668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337040" y="327672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+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32"/>
          <p:cNvGrpSpPr/>
          <p:nvPr/>
        </p:nvGrpSpPr>
        <p:grpSpPr>
          <a:xfrm>
            <a:off x="645120" y="3657240"/>
            <a:ext cx="4612320" cy="1067040"/>
            <a:chOff x="645120" y="3657240"/>
            <a:chExt cx="4612320" cy="1067040"/>
          </a:xfrm>
        </p:grpSpPr>
        <p:sp>
          <p:nvSpPr>
            <p:cNvPr id="199" name="Text Box 15"/>
            <p:cNvSpPr/>
            <p:nvPr/>
          </p:nvSpPr>
          <p:spPr>
            <a:xfrm>
              <a:off x="645120" y="3962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1635480" y="3962520"/>
              <a:ext cx="21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3710880" y="4010040"/>
              <a:ext cx="15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 flipH="1" flipV="1">
              <a:off x="4391640" y="3657240"/>
              <a:ext cx="2361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 flipH="1">
              <a:off x="4233960" y="3657600"/>
              <a:ext cx="157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>
              <a:off x="3603960" y="4483080"/>
              <a:ext cx="3934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769680" y="3733920"/>
              <a:ext cx="62964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1635480" y="4419720"/>
              <a:ext cx="86616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Text Box 23"/>
            <p:cNvSpPr/>
            <p:nvPr/>
          </p:nvSpPr>
          <p:spPr>
            <a:xfrm>
              <a:off x="1095120" y="40384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Text Box 24"/>
            <p:cNvSpPr/>
            <p:nvPr/>
          </p:nvSpPr>
          <p:spPr>
            <a:xfrm>
              <a:off x="4266000" y="40892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2960280" y="405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26"/>
          <p:cNvSpPr/>
          <p:nvPr/>
        </p:nvSpPr>
        <p:spPr>
          <a:xfrm>
            <a:off x="5813280" y="4024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2(3x)(4) ≠ – 6x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33"/>
          <p:cNvGrpSpPr/>
          <p:nvPr/>
        </p:nvGrpSpPr>
        <p:grpSpPr>
          <a:xfrm>
            <a:off x="685800" y="5060880"/>
            <a:ext cx="7864560" cy="825480"/>
            <a:chOff x="685800" y="5060880"/>
            <a:chExt cx="7864560" cy="825480"/>
          </a:xfrm>
        </p:grpSpPr>
        <p:sp>
          <p:nvSpPr>
            <p:cNvPr id="212" name="Text Box 28"/>
            <p:cNvSpPr/>
            <p:nvPr/>
          </p:nvSpPr>
          <p:spPr>
            <a:xfrm>
              <a:off x="685800" y="506088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3821040" y="55040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34920" cy="1218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90720" y="156996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ular piece of cloth must be cut to make a tablecloth. The area needed is (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dimensions of the cloth ar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d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for the perimeter of the cloth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 inch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6"/>
          <p:cNvGrpSpPr/>
          <p:nvPr/>
        </p:nvGrpSpPr>
        <p:grpSpPr>
          <a:xfrm>
            <a:off x="838080" y="1600200"/>
            <a:ext cx="1791000" cy="704880"/>
            <a:chOff x="838080" y="1600200"/>
            <a:chExt cx="1791000" cy="704880"/>
          </a:xfrm>
        </p:grpSpPr>
        <p:sp>
          <p:nvSpPr>
            <p:cNvPr id="218" name="Text Box 7"/>
            <p:cNvSpPr/>
            <p:nvPr/>
          </p:nvSpPr>
          <p:spPr>
            <a:xfrm>
              <a:off x="1645200" y="17229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838080" y="1600200"/>
              <a:ext cx="704880" cy="704880"/>
              <a:chOff x="838080" y="1600200"/>
              <a:chExt cx="704880" cy="704880"/>
            </a:xfrm>
          </p:grpSpPr>
          <p:pic>
            <p:nvPicPr>
              <p:cNvPr id="220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6002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Text Box 10"/>
              <p:cNvSpPr/>
              <p:nvPr/>
            </p:nvSpPr>
            <p:spPr>
              <a:xfrm>
                <a:off x="1042560" y="171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" name="Rectangle 11"/>
          <p:cNvSpPr/>
          <p:nvPr/>
        </p:nvSpPr>
        <p:spPr>
          <a:xfrm>
            <a:off x="1346760" y="251460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505520" y="32004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3)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278720" y="387036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642320" y="449568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=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4636080" y="2438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4x, b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637160" y="297180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637160" y="38862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1143000" y="518148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 and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898560" y="184464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tableclo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06668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99840" y="3505320"/>
            <a:ext cx="16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549080" y="4038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914400" y="47401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tablecloth in inches is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60360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604320" y="3505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605760" y="4038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1374120" y="193680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658160" y="26668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801800" y="33526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888560" y="39942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082520" y="466416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 in. the perimeter of the tablecloth is 164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064120" y="33526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11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1402200" y="16754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609480" y="1523880"/>
            <a:ext cx="838440" cy="676440"/>
            <a:chOff x="609480" y="1523880"/>
            <a:chExt cx="838440" cy="67644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714240" y="152388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8"/>
            <p:cNvSpPr/>
            <p:nvPr/>
          </p:nvSpPr>
          <p:spPr>
            <a:xfrm>
              <a:off x="609480" y="1675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Text Box 9"/>
          <p:cNvSpPr/>
          <p:nvPr/>
        </p:nvSpPr>
        <p:spPr>
          <a:xfrm>
            <a:off x="1071720" y="2165400"/>
            <a:ext cx="715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square with a perimeter of 164, the side length is                 and the area is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81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496520" y="3962520"/>
            <a:ext cx="48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801160" y="4495680"/>
            <a:ext cx="28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500200" y="5105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64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2548440" y="5516640"/>
            <a:ext cx="1301400" cy="581760"/>
            <a:chOff x="2548440" y="5516640"/>
            <a:chExt cx="1301400" cy="581760"/>
          </a:xfrm>
        </p:grpSpPr>
        <p:sp>
          <p:nvSpPr>
            <p:cNvPr id="256" name="Text Box 15"/>
            <p:cNvSpPr/>
            <p:nvPr/>
          </p:nvSpPr>
          <p:spPr>
            <a:xfrm>
              <a:off x="2548440" y="5638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8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3240000" y="5516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Text Box 19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21"/>
          <p:cNvGrpSpPr/>
          <p:nvPr/>
        </p:nvGrpSpPr>
        <p:grpSpPr>
          <a:xfrm>
            <a:off x="3251160" y="2603520"/>
            <a:ext cx="1746360" cy="685800"/>
            <a:chOff x="3251160" y="2603520"/>
            <a:chExt cx="1746360" cy="685800"/>
          </a:xfrm>
        </p:grpSpPr>
        <p:pic>
          <p:nvPicPr>
            <p:cNvPr id="260" name="Picture 10" descr="1"/>
            <p:cNvPicPr/>
            <p:nvPr/>
          </p:nvPicPr>
          <p:blipFill>
            <a:blip r:embed="rId2"/>
            <a:stretch/>
          </p:blipFill>
          <p:spPr>
            <a:xfrm>
              <a:off x="3251160" y="2603520"/>
              <a:ext cx="16192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0"/>
            <p:cNvSpPr/>
            <p:nvPr/>
          </p:nvSpPr>
          <p:spPr>
            <a:xfrm>
              <a:off x="4768920" y="273060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457200" y="1676520"/>
            <a:ext cx="7924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ompany produces square sheets of aluminum, each of which has an area of (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ide length of each sheet is in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in term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the perimeter of a sheet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295280"/>
            <a:ext cx="84582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whether the following are perfect squares. If so, find the square roo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213600" y="520956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7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1818720" y="51814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4432680" y="361008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6"/>
          <p:cNvSpPr/>
          <p:nvPr/>
        </p:nvSpPr>
        <p:spPr>
          <a:xfrm>
            <a:off x="2041200" y="4676040"/>
            <a:ext cx="12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579960" y="41623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4506480" y="41623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1"/>
          <p:cNvSpPr/>
          <p:nvPr/>
        </p:nvSpPr>
        <p:spPr>
          <a:xfrm>
            <a:off x="611640" y="46623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514760" y="47052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622800" y="519588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544280" y="51958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231240" y="4676760"/>
            <a:ext cx="14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2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986480" y="362412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8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894320" y="4148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6195240" y="416232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6177600" y="356220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865080" y="1676520"/>
            <a:ext cx="4736160" cy="761760"/>
            <a:chOff x="865080" y="1676520"/>
            <a:chExt cx="4736160" cy="761760"/>
          </a:xfrm>
        </p:grpSpPr>
        <p:grpSp>
          <p:nvGrpSpPr>
            <p:cNvPr id="266" name="Group 6"/>
            <p:cNvGrpSpPr/>
            <p:nvPr/>
          </p:nvGrpSpPr>
          <p:grpSpPr>
            <a:xfrm>
              <a:off x="865080" y="1676520"/>
              <a:ext cx="761760" cy="761760"/>
              <a:chOff x="865080" y="1676520"/>
              <a:chExt cx="761760" cy="761760"/>
            </a:xfrm>
          </p:grpSpPr>
          <p:pic>
            <p:nvPicPr>
              <p:cNvPr id="26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765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8"/>
              <p:cNvSpPr/>
              <p:nvPr/>
            </p:nvSpPr>
            <p:spPr>
              <a:xfrm>
                <a:off x="986400" y="169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Text Box 9"/>
            <p:cNvSpPr/>
            <p:nvPr/>
          </p:nvSpPr>
          <p:spPr>
            <a:xfrm>
              <a:off x="941760" y="17510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Text Box 10"/>
          <p:cNvSpPr/>
          <p:nvPr/>
        </p:nvSpPr>
        <p:spPr>
          <a:xfrm>
            <a:off x="1066680" y="24382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a sheet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1312200" y="374976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1219320" y="4375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eet is a square with area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219320" y="4968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7"/>
          <p:cNvGrpSpPr/>
          <p:nvPr/>
        </p:nvGrpSpPr>
        <p:grpSpPr>
          <a:xfrm>
            <a:off x="838080" y="1571760"/>
            <a:ext cx="2789640" cy="647640"/>
            <a:chOff x="838080" y="1571760"/>
            <a:chExt cx="2789640" cy="647640"/>
          </a:xfrm>
        </p:grpSpPr>
        <p:grpSp>
          <p:nvGrpSpPr>
            <p:cNvPr id="275" name="Group 8"/>
            <p:cNvGrpSpPr/>
            <p:nvPr/>
          </p:nvGrpSpPr>
          <p:grpSpPr>
            <a:xfrm>
              <a:off x="838080" y="1571760"/>
              <a:ext cx="571680" cy="647640"/>
              <a:chOff x="838080" y="1571760"/>
              <a:chExt cx="571680" cy="647640"/>
            </a:xfrm>
          </p:grpSpPr>
          <p:pic>
            <p:nvPicPr>
              <p:cNvPr id="276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717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0"/>
              <p:cNvSpPr/>
              <p:nvPr/>
            </p:nvSpPr>
            <p:spPr>
              <a:xfrm>
                <a:off x="961560" y="16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8" name="Text Box 11"/>
            <p:cNvSpPr/>
            <p:nvPr/>
          </p:nvSpPr>
          <p:spPr>
            <a:xfrm>
              <a:off x="1593720" y="16178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1219320" y="225756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241280" y="3324240"/>
            <a:ext cx="69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to find the side length of a sheet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5"/>
          <p:cNvGrpSpPr/>
          <p:nvPr/>
        </p:nvGrpSpPr>
        <p:grpSpPr>
          <a:xfrm>
            <a:off x="673200" y="1523880"/>
            <a:ext cx="1791000" cy="704880"/>
            <a:chOff x="673200" y="1523880"/>
            <a:chExt cx="1791000" cy="704880"/>
          </a:xfrm>
        </p:grpSpPr>
        <p:sp>
          <p:nvSpPr>
            <p:cNvPr id="283" name="Text Box 6"/>
            <p:cNvSpPr/>
            <p:nvPr/>
          </p:nvSpPr>
          <p:spPr>
            <a:xfrm>
              <a:off x="148032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Group 7"/>
            <p:cNvGrpSpPr/>
            <p:nvPr/>
          </p:nvGrpSpPr>
          <p:grpSpPr>
            <a:xfrm>
              <a:off x="673200" y="1523880"/>
              <a:ext cx="704880" cy="704880"/>
              <a:chOff x="673200" y="1523880"/>
              <a:chExt cx="704880" cy="704880"/>
            </a:xfrm>
          </p:grpSpPr>
          <p:pic>
            <p:nvPicPr>
              <p:cNvPr id="2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0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9"/>
              <p:cNvSpPr/>
              <p:nvPr/>
            </p:nvSpPr>
            <p:spPr>
              <a:xfrm>
                <a:off x="87768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7" name="Rectangle 10"/>
          <p:cNvSpPr/>
          <p:nvPr/>
        </p:nvSpPr>
        <p:spPr>
          <a:xfrm>
            <a:off x="1735560" y="2303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152360" y="2836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) 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971720" y="35053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1505880" y="4284720"/>
            <a:ext cx="41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4266360" y="23623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3x, b =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267080" y="28954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4267080" y="3581280"/>
            <a:ext cx="45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685800" y="510552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838080" y="160020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aluminum sh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14300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13600" y="3579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52760" y="4113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990720" y="49687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sheet in meters is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67992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680640" y="3581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3682080" y="4152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440720" y="17524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761480" y="24811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878120" y="316872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1954800" y="38098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158840" y="44798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m. the perimeter of the sheet is 40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140080" y="3168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3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1446840" y="15976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609480" y="1446120"/>
            <a:ext cx="838440" cy="676440"/>
            <a:chOff x="609480" y="1446120"/>
            <a:chExt cx="838440" cy="676440"/>
          </a:xfrm>
        </p:grpSpPr>
        <p:pic>
          <p:nvPicPr>
            <p:cNvPr id="314" name="Picture 6" descr=""/>
            <p:cNvPicPr/>
            <p:nvPr/>
          </p:nvPicPr>
          <p:blipFill>
            <a:blip r:embed="rId1"/>
            <a:stretch/>
          </p:blipFill>
          <p:spPr>
            <a:xfrm>
              <a:off x="714240" y="144612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609480" y="1597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Rectangle 10"/>
          <p:cNvSpPr/>
          <p:nvPr/>
        </p:nvSpPr>
        <p:spPr>
          <a:xfrm>
            <a:off x="1850400" y="35035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3158640" y="403704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860560" y="46483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 + 18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Group 13"/>
          <p:cNvGrpSpPr/>
          <p:nvPr/>
        </p:nvGrpSpPr>
        <p:grpSpPr>
          <a:xfrm>
            <a:off x="3308040" y="5135400"/>
            <a:ext cx="1311120" cy="582120"/>
            <a:chOff x="3308040" y="5135400"/>
            <a:chExt cx="1311120" cy="582120"/>
          </a:xfrm>
        </p:grpSpPr>
        <p:sp>
          <p:nvSpPr>
            <p:cNvPr id="320" name="Text Box 14"/>
            <p:cNvSpPr/>
            <p:nvPr/>
          </p:nvSpPr>
          <p:spPr>
            <a:xfrm>
              <a:off x="3308040" y="5257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5"/>
            <p:cNvSpPr/>
            <p:nvPr/>
          </p:nvSpPr>
          <p:spPr>
            <a:xfrm>
              <a:off x="4009680" y="5135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20"/>
          <p:cNvGrpSpPr/>
          <p:nvPr/>
        </p:nvGrpSpPr>
        <p:grpSpPr>
          <a:xfrm>
            <a:off x="533520" y="2131920"/>
            <a:ext cx="8457840" cy="1104840"/>
            <a:chOff x="533520" y="2131920"/>
            <a:chExt cx="8457840" cy="1104840"/>
          </a:xfrm>
        </p:grpSpPr>
        <p:sp>
          <p:nvSpPr>
            <p:cNvPr id="323" name="Text Box 8"/>
            <p:cNvSpPr/>
            <p:nvPr/>
          </p:nvSpPr>
          <p:spPr>
            <a:xfrm>
              <a:off x="533520" y="2131920"/>
              <a:ext cx="8457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or a square with a perimeter of 40, the side length is            m and the area is 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00 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24" name="Picture 16" descr="1"/>
            <p:cNvPicPr/>
            <p:nvPr/>
          </p:nvPicPr>
          <p:blipFill>
            <a:blip r:embed="rId2"/>
            <a:stretch/>
          </p:blipFill>
          <p:spPr>
            <a:xfrm>
              <a:off x="1003320" y="2550960"/>
              <a:ext cx="1135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681120" y="2690640"/>
            <a:ext cx="778176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4920" y="1844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241280" y="29034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2155680" y="3444840"/>
            <a:ext cx="2333880" cy="1254960"/>
            <a:chOff x="2155680" y="3444840"/>
            <a:chExt cx="2333880" cy="1254960"/>
          </a:xfrm>
        </p:grpSpPr>
        <p:sp>
          <p:nvSpPr>
            <p:cNvPr id="331" name="Text Box 11"/>
            <p:cNvSpPr/>
            <p:nvPr/>
          </p:nvSpPr>
          <p:spPr>
            <a:xfrm>
              <a:off x="2155680" y="344484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Text Box 12"/>
            <p:cNvSpPr/>
            <p:nvPr/>
          </p:nvSpPr>
          <p:spPr>
            <a:xfrm>
              <a:off x="3139920" y="4240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3352680" y="3901680"/>
              <a:ext cx="76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>
              <a:off x="3429000" y="390168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Text Box 15"/>
          <p:cNvSpPr/>
          <p:nvPr/>
        </p:nvSpPr>
        <p:spPr>
          <a:xfrm>
            <a:off x="5112720" y="42829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3p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914400" y="504504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04920" y="18288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914400" y="281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937040" y="5105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4936680" y="464832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0x, b = 2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9370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31"/>
          <p:cNvGrpSpPr/>
          <p:nvPr/>
        </p:nvGrpSpPr>
        <p:grpSpPr>
          <a:xfrm>
            <a:off x="1041120" y="3352680"/>
            <a:ext cx="2815560" cy="1253520"/>
            <a:chOff x="1041120" y="3352680"/>
            <a:chExt cx="2815560" cy="1253520"/>
          </a:xfrm>
        </p:grpSpPr>
        <p:sp>
          <p:nvSpPr>
            <p:cNvPr id="344" name="Line 10"/>
            <p:cNvSpPr/>
            <p:nvPr/>
          </p:nvSpPr>
          <p:spPr>
            <a:xfrm flipH="1">
              <a:off x="30258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31021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>
              <a:off x="1501920" y="335268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 flipH="1">
              <a:off x="1501560" y="37339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2111400" y="373392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9" name="Group 25"/>
            <p:cNvGrpSpPr/>
            <p:nvPr/>
          </p:nvGrpSpPr>
          <p:grpSpPr>
            <a:xfrm>
              <a:off x="2806920" y="4146480"/>
              <a:ext cx="1049760" cy="459720"/>
              <a:chOff x="2806920" y="4146480"/>
              <a:chExt cx="1049760" cy="459720"/>
            </a:xfrm>
          </p:grpSpPr>
          <p:sp>
            <p:nvSpPr>
              <p:cNvPr id="350" name="Text Box 9"/>
              <p:cNvSpPr/>
              <p:nvPr/>
            </p:nvSpPr>
            <p:spPr>
              <a:xfrm>
                <a:off x="2806920" y="4146480"/>
                <a:ext cx="104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Text Box 23"/>
              <p:cNvSpPr/>
              <p:nvPr/>
            </p:nvSpPr>
            <p:spPr>
              <a:xfrm>
                <a:off x="3190680" y="420516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52" name="Group 26"/>
            <p:cNvGrpSpPr/>
            <p:nvPr/>
          </p:nvGrpSpPr>
          <p:grpSpPr>
            <a:xfrm>
              <a:off x="1041120" y="4146480"/>
              <a:ext cx="1409400" cy="459720"/>
              <a:chOff x="1041120" y="4146480"/>
              <a:chExt cx="1409400" cy="459720"/>
            </a:xfrm>
          </p:grpSpPr>
          <p:sp>
            <p:nvSpPr>
              <p:cNvPr id="353" name="Text Box 17"/>
              <p:cNvSpPr/>
              <p:nvPr/>
            </p:nvSpPr>
            <p:spPr>
              <a:xfrm>
                <a:off x="1041120" y="4146480"/>
                <a:ext cx="140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1588680" y="420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55" name="Text Box 27"/>
          <p:cNvSpPr/>
          <p:nvPr/>
        </p:nvSpPr>
        <p:spPr>
          <a:xfrm>
            <a:off x="1447920" y="464832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1326960" y="506268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8104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937040" y="5181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949280" y="472428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16002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1336320" y="525780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58104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7" name="Group 31"/>
          <p:cNvGrpSpPr/>
          <p:nvPr/>
        </p:nvGrpSpPr>
        <p:grpSpPr>
          <a:xfrm>
            <a:off x="1201320" y="3809880"/>
            <a:ext cx="2803680" cy="872280"/>
            <a:chOff x="1201320" y="3809880"/>
            <a:chExt cx="2803680" cy="872280"/>
          </a:xfrm>
        </p:grpSpPr>
        <p:sp>
          <p:nvSpPr>
            <p:cNvPr id="368" name="Line 11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 flipH="1">
              <a:off x="1447560" y="380988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1981080" y="380988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2754360" y="422244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31766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1201320" y="4222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Text Box 21"/>
            <p:cNvSpPr/>
            <p:nvPr/>
          </p:nvSpPr>
          <p:spPr>
            <a:xfrm>
              <a:off x="15350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Text Box 26"/>
          <p:cNvSpPr/>
          <p:nvPr/>
        </p:nvSpPr>
        <p:spPr>
          <a:xfrm>
            <a:off x="1814400" y="339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4"/>
          <p:cNvSpPr/>
          <p:nvPr/>
        </p:nvSpPr>
        <p:spPr>
          <a:xfrm>
            <a:off x="380880" y="1905120"/>
            <a:ext cx="8458200" cy="1447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erfect-square trinomial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the difference of two squares.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52280" y="1600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04480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937040" y="5181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4936320" y="472428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927080" y="47242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1636560" y="513864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621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26"/>
          <p:cNvGrpSpPr/>
          <p:nvPr/>
        </p:nvGrpSpPr>
        <p:grpSpPr>
          <a:xfrm>
            <a:off x="1477800" y="3809880"/>
            <a:ext cx="2463120" cy="872280"/>
            <a:chOff x="1477800" y="3809880"/>
            <a:chExt cx="2463120" cy="872280"/>
          </a:xfrm>
        </p:grpSpPr>
        <p:sp>
          <p:nvSpPr>
            <p:cNvPr id="387" name="Line 15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 flipH="1">
              <a:off x="1600200" y="3809880"/>
              <a:ext cx="5335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2133720" y="380988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2878920" y="42224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32684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477800" y="422244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18446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24"/>
          <p:cNvSpPr/>
          <p:nvPr/>
        </p:nvSpPr>
        <p:spPr>
          <a:xfrm>
            <a:off x="20574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654200" y="27432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76244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poly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775400" y="4648320"/>
            <a:ext cx="20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p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7624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14479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124640" y="506268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0644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5" name="Group 24"/>
          <p:cNvGrpSpPr/>
          <p:nvPr/>
        </p:nvGrpSpPr>
        <p:grpSpPr>
          <a:xfrm>
            <a:off x="1007640" y="3733920"/>
            <a:ext cx="2868840" cy="872280"/>
            <a:chOff x="1007640" y="3733920"/>
            <a:chExt cx="2868840" cy="872280"/>
          </a:xfrm>
        </p:grpSpPr>
        <p:sp>
          <p:nvSpPr>
            <p:cNvPr id="406" name="Line 15"/>
            <p:cNvSpPr/>
            <p:nvPr/>
          </p:nvSpPr>
          <p:spPr>
            <a:xfrm flipH="1">
              <a:off x="28512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29275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17"/>
            <p:cNvSpPr/>
            <p:nvPr/>
          </p:nvSpPr>
          <p:spPr>
            <a:xfrm flipH="1">
              <a:off x="1272960" y="373392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1806480" y="373392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19"/>
            <p:cNvSpPr/>
            <p:nvPr/>
          </p:nvSpPr>
          <p:spPr>
            <a:xfrm>
              <a:off x="2556000" y="4146480"/>
              <a:ext cx="13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20"/>
            <p:cNvSpPr/>
            <p:nvPr/>
          </p:nvSpPr>
          <p:spPr>
            <a:xfrm>
              <a:off x="3020760" y="42051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1007640" y="4146480"/>
              <a:ext cx="10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322280" y="42242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 Box 23"/>
          <p:cNvSpPr/>
          <p:nvPr/>
        </p:nvSpPr>
        <p:spPr>
          <a:xfrm>
            <a:off x="1639800" y="331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41280" y="281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1803960" y="3809880"/>
            <a:ext cx="1249560" cy="798120"/>
            <a:chOff x="1803960" y="3809880"/>
            <a:chExt cx="1249560" cy="798120"/>
          </a:xfrm>
        </p:grpSpPr>
        <p:sp>
          <p:nvSpPr>
            <p:cNvPr id="419" name="Text Box 10"/>
            <p:cNvSpPr/>
            <p:nvPr/>
          </p:nvSpPr>
          <p:spPr>
            <a:xfrm>
              <a:off x="1803960" y="4148280"/>
              <a:ext cx="12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H="1">
              <a:off x="199692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207324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2" name="Text Box 13"/>
          <p:cNvSpPr/>
          <p:nvPr/>
        </p:nvSpPr>
        <p:spPr>
          <a:xfrm>
            <a:off x="4426560" y="41148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762120" y="4952880"/>
            <a:ext cx="79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1851120" y="33526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57200" y="1623240"/>
            <a:ext cx="83059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0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ence will be built around a garden with an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of (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6)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mens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garden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le numbers. Find an expression for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meter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4572000" y="58820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2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6; 156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341960" y="3840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0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3918960" y="321624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683160" y="230184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perfect-square trinomial because –4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≠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457200" y="2061000"/>
            <a:ext cx="80773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3378240" y="326232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3395520" y="467676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073320" y="374976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difference of two squares; 3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not a perfect squ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38080" y="1371600"/>
            <a:ext cx="790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nomial is a perfect square if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s are perfect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279440" y="2743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 is two times one factor from the first term and one factor from the last ter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2"/>
          <p:cNvSpPr/>
          <p:nvPr/>
        </p:nvSpPr>
        <p:spPr>
          <a:xfrm flipV="1" rot="10800000">
            <a:off x="2684520" y="45684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12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2410920" y="5028840"/>
            <a:ext cx="4451400" cy="991080"/>
            <a:chOff x="2410920" y="5028840"/>
            <a:chExt cx="4451400" cy="991080"/>
          </a:xfrm>
        </p:grpSpPr>
        <p:sp>
          <p:nvSpPr>
            <p:cNvPr id="75" name="Text Box 13"/>
            <p:cNvSpPr/>
            <p:nvPr/>
          </p:nvSpPr>
          <p:spPr>
            <a:xfrm>
              <a:off x="2410920" y="5257800"/>
              <a:ext cx="10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3733560" y="5291280"/>
              <a:ext cx="18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513040" y="53053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 flipH="1" flipV="1">
              <a:off x="5943240" y="5028840"/>
              <a:ext cx="228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H="1">
              <a:off x="5790960" y="5029200"/>
              <a:ext cx="151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5257440" y="5715000"/>
              <a:ext cx="3808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2590560" y="5029200"/>
              <a:ext cx="60912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3428640" y="57150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40400" y="53071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853600" y="53593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4648680" y="534996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81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43200" y="2852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60920" y="34290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6575400" y="4419720"/>
            <a:ext cx="2568600" cy="459720"/>
            <a:chOff x="6575400" y="4419720"/>
            <a:chExt cx="2568600" cy="459720"/>
          </a:xfrm>
        </p:grpSpPr>
        <p:sp>
          <p:nvSpPr>
            <p:cNvPr id="92" name="Text Box 23"/>
            <p:cNvSpPr/>
            <p:nvPr/>
          </p:nvSpPr>
          <p:spPr>
            <a:xfrm>
              <a:off x="6575400" y="44197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2(3x   8) ≠  –15x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7230960" y="4492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up 43"/>
          <p:cNvGrpSpPr/>
          <p:nvPr/>
        </p:nvGrpSpPr>
        <p:grpSpPr>
          <a:xfrm>
            <a:off x="685800" y="5334120"/>
            <a:ext cx="7705800" cy="825480"/>
            <a:chOff x="685800" y="5334120"/>
            <a:chExt cx="7705800" cy="825480"/>
          </a:xfrm>
        </p:grpSpPr>
        <p:sp>
          <p:nvSpPr>
            <p:cNvPr id="95" name="Text Box 25"/>
            <p:cNvSpPr/>
            <p:nvPr/>
          </p:nvSpPr>
          <p:spPr>
            <a:xfrm>
              <a:off x="685800" y="5334120"/>
              <a:ext cx="77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8)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3769200" y="5762520"/>
              <a:ext cx="2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41"/>
          <p:cNvGrpSpPr/>
          <p:nvPr/>
        </p:nvGrpSpPr>
        <p:grpSpPr>
          <a:xfrm>
            <a:off x="2002680" y="4343400"/>
            <a:ext cx="4321800" cy="507240"/>
            <a:chOff x="2002680" y="4343400"/>
            <a:chExt cx="4321800" cy="507240"/>
          </a:xfrm>
        </p:grpSpPr>
        <p:sp>
          <p:nvSpPr>
            <p:cNvPr id="98" name="Text Box 13"/>
            <p:cNvSpPr/>
            <p:nvPr/>
          </p:nvSpPr>
          <p:spPr>
            <a:xfrm>
              <a:off x="4975200" y="43909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2002680" y="434340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352680" y="43768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8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240804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5265720" y="44449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4187880" y="44355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2133720" y="3809880"/>
            <a:ext cx="3352680" cy="1417320"/>
            <a:chOff x="2133720" y="3809880"/>
            <a:chExt cx="3352680" cy="1417320"/>
          </a:xfrm>
        </p:grpSpPr>
        <p:sp>
          <p:nvSpPr>
            <p:cNvPr id="105" name="Freeform 16"/>
            <p:cNvSpPr/>
            <p:nvPr/>
          </p:nvSpPr>
          <p:spPr>
            <a:xfrm rot="544200">
              <a:off x="45720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048120" y="48006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5"/>
            <p:cNvSpPr/>
            <p:nvPr/>
          </p:nvSpPr>
          <p:spPr>
            <a:xfrm flipV="1">
              <a:off x="2133720" y="380988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36"/>
            <p:cNvSpPr/>
            <p:nvPr/>
          </p:nvSpPr>
          <p:spPr>
            <a:xfrm>
              <a:off x="2728800" y="3809880"/>
              <a:ext cx="152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5029200" y="380988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39"/>
            <p:cNvSpPr/>
            <p:nvPr/>
          </p:nvSpPr>
          <p:spPr>
            <a:xfrm>
              <a:off x="5029200" y="3809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10520" y="2851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122920" y="3429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1240560" y="3873600"/>
            <a:ext cx="4403160" cy="1353600"/>
            <a:chOff x="1240560" y="3873600"/>
            <a:chExt cx="4403160" cy="1353600"/>
          </a:xfrm>
        </p:grpSpPr>
        <p:sp>
          <p:nvSpPr>
            <p:cNvPr id="117" name="Text Box 12"/>
            <p:cNvSpPr/>
            <p:nvPr/>
          </p:nvSpPr>
          <p:spPr>
            <a:xfrm>
              <a:off x="4294080" y="443376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240560" y="43862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689200" y="4419720"/>
              <a:ext cx="18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9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1608120" y="44355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549680" y="44877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20"/>
            <p:cNvSpPr/>
            <p:nvPr/>
          </p:nvSpPr>
          <p:spPr>
            <a:xfrm>
              <a:off x="3477960" y="447840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rot="544200">
              <a:off x="3914640" y="4800240"/>
              <a:ext cx="60984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2209680" y="48769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448160" y="3873600"/>
              <a:ext cx="457200" cy="533160"/>
              <a:chOff x="4448160" y="3873600"/>
              <a:chExt cx="457200" cy="53316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4448160" y="3873600"/>
                <a:ext cx="457200" cy="41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4448160" y="38736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856080" y="28116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778400" y="33526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209200" y="33526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9x, b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1295280" y="3886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)(5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2505240" y="48769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210280" y="3902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+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521028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65160" y="285264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952880" y="35053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not a perfect-square because 14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936080" y="34290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335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 is not a perfect-square trinom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3-05-20T13:54:32Z</dcterms:modified>
  <cp:revision>111</cp:revision>
  <dc:subject/>
  <dc:title>Slide 1</dc:title>
</cp:coreProperties>
</file>